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78E1-363D-442E-A781-CD860C038D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6DB7-6F49-46F0-AA01-B7D9CCE786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FCE6-CA93-4EBB-9D1D-77C21925F7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1670-A948-4FEB-8A71-CA8BED844E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87B3-A17E-4A76-9359-A3A9D0DD74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8559-91DD-45D0-AD08-DA185024F0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1E06-4DC2-4C52-8F26-4D61224DCC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61C8-3017-48EB-854E-052FA852B5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9584-DDBF-4BD8-88D9-4D72F8274D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BF337-79FC-4936-B951-D08A66AB4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77EAD-9F5F-447B-8F4B-9E4EF408E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6CBBF-3DD1-4B27-B6E2-0ECC806F3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3E3B3-4EAF-48BD-9386-156EE3556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0BD09-1B49-45BC-AF84-FBFC8ED44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8862-BD8E-4010-993C-084385ECC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1C590-3ECF-44D0-8D17-08708EE0B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7C43B-4700-4C0F-81F2-19E77754B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C343C-0FBA-4A5F-B39C-357BAB279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A721-9014-4930-B6DF-6AFFC751C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0B740-274C-44B9-9FF9-B909D817A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5E988-BA7F-4069-89E9-B46CBECA2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F12D-56EA-4AA7-82EA-119AAC5090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8:19:27Z</dcterms:modified>
  <cp:revision>56</cp:revision>
  <dc:subject/>
  <dc:title>Protecting the planet from climate-change</dc:title>
</cp:coreProperties>
</file>